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DF8-BE96-43F8-AB44-A521EEF1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B8A-FEAE-44FB-85E9-44EED5F4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590-0D6C-4D44-BB9A-28728CA1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768-E27E-4EE2-918E-28851501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0A1-4FA0-4347-B53F-55DF5EC5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81D-D5A2-49D0-A864-1E782B81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B92B-DBB1-4C43-8328-C6F6E118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52C0-B00F-46EA-97CE-048846F6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1C5-BD68-4F33-815E-3C9366D8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B46-84A3-434A-AF7D-5F2C8726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CA8D-F05B-47B9-B20B-5597434B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07D-9F39-4984-90B7-4492A44B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44F-5455-41AA-8353-1322265C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481-B5B8-483F-83FE-C3B9703C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557C-342C-43FC-9AE9-103853A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A10A2-AAEB-4D82-AC4C-E405110D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3BEE2-2EBC-43E1-A679-2AA6F50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D070A-41B3-44FC-983C-424002D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E6D80-6627-41AB-85E9-4DF59F8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7E554-ED65-4623-9AB0-0D7DB14E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3CBD-6974-4645-809C-6ADC895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93973-8999-4B10-A8A7-20AAC670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54DB8-ABBD-4C2F-99DA-195D898E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3A9-CB7D-4663-BFAC-07355990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B85-7A01-44FE-91C1-1C964B88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B16-7A55-419A-B296-3DB5D9FA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182-2F64-484F-BBCA-6648139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0288-0047-4C22-BB13-A8D66407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1FD-BCD9-44E6-997D-68756D5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D0CC-530E-4D77-AD1D-C300D6C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64E-41D5-4079-9D4A-A1515DB3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599B-4F77-4048-8E5D-1112D8F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3E8-673C-4AA0-968B-9E30C35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EBA4-FD0F-4C1E-AD81-0891F7C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BF5-5AD3-4168-B5BB-7488D80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A58A-4182-4A92-A5A4-FC977D0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22E5-16D7-4A07-A379-9CCC88BD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F739-642C-48FD-8F8B-5CEC7708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B39C-C652-4714-89CA-CD8530F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092B-3A90-47FC-8D7A-A7A8C2D3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EA0F-91DA-4A4C-885C-600AF62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DA90-E9A0-4C72-8946-5384F02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CDF5-0650-40D5-A09D-A12A8691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BAE-4FD6-4FF9-A82B-5AC8438E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3DEF-AC02-4159-BB7E-77356D2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C7EF-5613-4029-AC44-09D6E48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566C-D327-4511-A8D0-170290D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8FB4-EF48-4008-9E53-B629B9C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E902-C8F8-4607-BB71-81A1A8A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4C18-F5D5-4CBF-935E-EDD4FB80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9481-2AFD-4E86-8370-419117D3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BE09-F6C2-4B09-B5FE-93DE0AC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CCCE-E20B-458A-910C-9866AA9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8A98-3EA0-4A12-A4A7-A5C33BA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BC3-EDC1-42AE-93AA-53013B9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5F6B-0886-4263-AF6C-7355BDD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ABAC-8672-4F22-8327-F05C0EAA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5C2C-C969-4C91-9448-7129FAE6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C374-8D36-45CD-942F-721F8AE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5B93-EB8F-492F-9C92-DC26643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CB46-81D7-4DEE-9579-ACB6E87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0C37-D298-47C7-ADB2-D298D605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FA36-3F29-414C-A4FA-F9F750C0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B7B2-33EA-4C83-A05C-E82EAE28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7A13-4CE9-474E-A797-A66E54B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91F-6F3C-4C01-9AF6-527DB907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EC49-5DBE-424B-A869-A58F6C8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A2C1-D3B6-4FFA-B905-47DA77D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3D9B-04DD-4CC9-8C08-2C2E0D7E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E595-752B-429C-8C69-20D050F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23E3-A3AB-4801-A05D-C8E07B7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2120-5319-454A-9B21-7968AE3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D1B3-C127-44AB-AA8A-CD0209E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B739-6138-4BAD-83DB-248DD3D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910A-13FB-4208-803C-06B8223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6F39-C4F8-4136-9F13-8DBA49C2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6C0-7A27-431F-8639-8D573391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B1FA-5C41-421B-B5CC-FD8B2AB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479E-E107-4953-BF20-33391D7C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A0E0-38E8-494B-B4AE-D377D4EF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ACF7-9DB3-473C-BEF8-8910F59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7979-4953-43F3-9138-F25FE9F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C341-2953-4C29-9A0A-6708DBD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6A4A-3739-4AC5-B3AD-FF640EE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9E0F0-DE17-4C75-907F-7689670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F483-492B-4D2A-B280-EB2A2EE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65AD-C342-4FF2-BEEC-096F48CD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F58-3620-4D81-A068-D0AD2D4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F274-3FE4-48FE-B6B0-83C2578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677C8-4447-4897-A5BE-0BE14E84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E99E-9D39-43CA-B8B6-3A73EEE1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FFB5-CC77-4292-AAFA-81F6DA1C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47FC-3D03-46AD-8DB4-C011B14A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E864-AA65-4F74-A4F9-DB46FFE0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69B2-C69A-4695-B203-5D58937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8FF7-8FC3-4862-8434-57D7375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D1DB-02FA-458F-8921-D061C8FA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EA51-8D7C-482B-8F77-5EBA8A0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FB0-AC30-4024-9C26-E1A63C6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D62F-7B6C-44EA-B304-B55A339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1468B-731E-41FA-BA0F-5815E00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5CE4-CCA9-4431-A9B7-42F25B8D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80C7-EE2D-4699-B1DD-B17CF98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1370-AF9B-4F04-92D6-C49B71A1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017F-294C-461E-BEC6-516CF3E4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E90C-237E-4704-BEC6-A1CCBB9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E02FA-A46D-4BC1-A009-57743FE4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B725-8F9C-4688-BB55-B591BF9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1C09-3507-407A-9E97-F913DAF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63C-2994-46C8-96AD-EB38D1C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383D-95DF-4E5E-A505-20079D95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1E520-E428-4C3D-BBC7-5D05B8B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F608-A4D7-4EEA-8DA2-A109111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0127-401F-442F-8159-32F61B1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C0618-16BF-4875-A2BF-71FFFBA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C962-5C11-4BC3-98D9-633E52BA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AAB1-E624-4CC8-871E-C6951EBA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A84E1-1177-482C-B0B2-8F5F97A7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61493-31F9-4C26-81D2-D616C7B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165E8-9CC9-4AA1-9CA5-F1ADE2ED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515-94B0-404C-A718-BFA4D74C635B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59A-6FB2-424C-A054-CB33850198F1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8DFD-E767-4EDC-8E63-CA81BC49E3C1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557-0E88-449A-9761-F4D0D1B43B06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8906-E11A-4F0F-9FB1-969BD45463E2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3F1F-060A-495B-B06C-55D828DBBFE4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FC53-1D21-48C5-98DC-A09947B62183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266D-DC28-4768-A19E-D900691DB3F6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3EB4-ADDA-4E79-B6C8-FC05A90CF492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tuational irony – occurs when what actually happens is opposite of what is expected or appropriat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Have you ever had a possession that you valued so much you could not imagine giving it up under ANY circumstances?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Originated in the Church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Provided religious instruction (most of the population could not read)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ystery plays – based on Biblical history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Franklin Gothic Book"/>
              </a:rPr>
              <a:t>Passion plays – re-enacted events in the last week of the life of Jesus Christ (Last Supper, Betrayal, Crucifixion)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iracle plays – based on legends of saints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orality plays – featured personified virtues and vices; members of guilds presented these plays, performing the parts of the story that best represented their crafts (Bakers = Last Supper; Shipbuilders = Noah’s Ark)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verse narrative which traces the adventures of a brave knight or other hero who has to overcome danger for love of a noble lady or high idea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The greatest English example is </a:t>
            </a:r>
            <a:r>
              <a:rPr b="0" i="1" lang="en-US" sz="2800" spc="-1" strike="noStrike">
                <a:solidFill>
                  <a:srgbClr val="666666"/>
                </a:solidFill>
                <a:latin typeface="Franklin Gothic Book"/>
              </a:rPr>
              <a:t>Sir Gawain and the Green Knight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t in a world in which ordinary laws of nature are suspended and idealized heroes fight, and almost always conquer, the forces of evi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Usually born under mysterious circumstance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Grows up in obscurity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Undergoes a childhood initiation involving a magic weapon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In maturity, fights to defeat evil and promote peace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Aided by magic weapons and mentor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Mysterious events surround his departure from this world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Near-perfect hero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Evil enemy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Quest – a perilous journey in search of something of value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Test of a hero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Supernatural element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Good vs. evil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Female figure – maidens, mothers, crones (witch-like old lady)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dangerous journey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test of the hero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return to the starting poin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Probably written around 1375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Ideals of knightly conduct – courage, loyalty, courtesy – were beginning to erod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r Gawain is one of King Arthur’s knights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e story contains all of the elements of a traditional English romance.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n excerpt from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Le Morte d’Arthur</a:t>
            </a: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, or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The Death of Arthur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Written by Sir Thomas Malory 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rchetype – a model; someone who is familiar to all, regardless of time or plac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rthur is an archetype of the romance hero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Written by Giovanni Boccaccio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Part of the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Decameron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Written in  vernacular Italian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100 tales which deal with love and the corruption of the clergy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daptations of popular folk tales, fables, anecdotes, or jokes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 frame story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An introductory narrative within which one or more of the characters proceed to tell individual storie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The </a:t>
            </a:r>
            <a:r>
              <a:rPr b="0" i="1" lang="en-US" sz="3000" spc="-1" strike="noStrike">
                <a:solidFill>
                  <a:srgbClr val="666666"/>
                </a:solidFill>
                <a:latin typeface="Franklin Gothic Book"/>
              </a:rPr>
              <a:t>Decameron</a:t>
            </a: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 – 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Ten wealthy Florentines leave the city to escape the plague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For each of ten days, a king or queen will be named.  He or she will select a theme and the others will tell stories based on that theme.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“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Federigo’s Falcon” was the 9</a:t>
            </a:r>
            <a:r>
              <a:rPr b="0" lang="en-US" sz="2600" spc="-1" strike="noStrike" baseline="30000">
                <a:solidFill>
                  <a:srgbClr val="666666"/>
                </a:solidFill>
                <a:latin typeface="Franklin Gothic Book"/>
              </a:rPr>
              <a:t>th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 story told on the 5</a:t>
            </a:r>
            <a:r>
              <a:rPr b="0" lang="en-US" sz="2600" spc="-1" strike="noStrike" baseline="30000">
                <a:solidFill>
                  <a:srgbClr val="666666"/>
                </a:solidFill>
                <a:latin typeface="Franklin Gothic Book"/>
              </a:rPr>
              <a:t>th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 day, a day devoted to stories with happy endings.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6:04:21Z</dcterms:created>
  <dc:creator>pcoles</dc:creator>
  <dc:description/>
  <dc:language>en-US</dc:language>
  <cp:lastModifiedBy>Trina Vest</cp:lastModifiedBy>
  <dcterms:modified xsi:type="dcterms:W3CDTF">2010-09-07T13:09:50Z</dcterms:modified>
  <cp:revision>54</cp:revision>
  <dc:subject/>
  <dc:title>Slide 1</dc:title>
</cp:coreProperties>
</file>